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979-BAFA-4DE1-BAA8-379EF394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247-CED5-4FCB-A3E2-AD9457D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BAF-A0B8-48A7-9DD1-71BAF52A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B69-1895-4474-AB72-F5EBC29D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3AC-1BB4-471D-BA25-261E6D4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2A7-EF5D-4861-B99D-FEA739B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630-1989-4D35-BBB9-F8CE967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A51-0037-4643-BC1D-E2636D9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36D-28BA-40C7-8682-BC1C8FB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D33-3B2B-4CF8-8B31-0993D3B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CFC-1B0A-4B2E-9E49-3B0D5BF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F01-46E0-49C4-B5AE-6E5D111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D80-61A0-42EC-9CCE-A844599EF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85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TAS ACLARATORIAS A LA PRESENTACION EN POWER 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8600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9933"/>
                </a:solidFill>
                <a:latin typeface="Arial"/>
              </a:rPr>
              <a:t>PROCESO DE PROMOCIÓN DE LA INVERSIÓN PRIV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5320" y="4156200"/>
            <a:ext cx="7238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entación del Ministro de Economía y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Dr. Carlos Boloña Behr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ima, 21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NOV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95320" y="5335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Arial Narrow"/>
              </a:rPr>
              <a:t>Diapositiva N°12</a:t>
            </a:r>
            <a:r>
              <a:rPr b="1" lang="es-ES_tradnl" sz="2000" spc="-1" strike="noStrike">
                <a:solidFill>
                  <a:srgbClr val="ff33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onsidérese la siguiente nota al cuad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336680"/>
            <a:ext cx="7238880" cy="1115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responde a los gastos de los Comités Especiales de Promoción de la Inversión Privada (CEPRIs), Juntas Liquidadoras, Dirección Ejecutiva y Programas Especiales (Reconversión Laboral y Apoyo Social, entre o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luye además transferencias al Tesoro Público por US$ 34 mill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803680"/>
            <a:ext cx="723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Arial Narrow"/>
              </a:rPr>
              <a:t>Diapositiva N°13</a:t>
            </a:r>
            <a:r>
              <a:rPr b="1" lang="es-ES_tradnl" sz="2000" spc="-1" strike="noStrike">
                <a:solidFill>
                  <a:srgbClr val="ff3300"/>
                </a:solidFill>
                <a:latin typeface="Arial Narrow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Donde d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2%DE LA VENT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Debe dec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2%DE LA VENTA TOTAL (APORTE DE LAS TRANSAC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8610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Arial Narrow"/>
              </a:rPr>
              <a:t>Diapositiva N°14</a:t>
            </a:r>
            <a:r>
              <a:rPr b="1" lang="es-ES_tradnl" sz="2000" spc="-1" strike="noStrike">
                <a:solidFill>
                  <a:srgbClr val="ff33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ustitúyase la nota p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9800" y="5725440"/>
            <a:ext cx="7238880" cy="253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*) Según artículo 33 del D.S. N° 070-92-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23:04:39Z</dcterms:created>
  <dc:creator>Amabila Salazar</dc:creator>
  <dc:description/>
  <dc:language>en-US</dc:language>
  <cp:lastModifiedBy>Amabila Salazar</cp:lastModifiedBy>
  <dcterms:modified xsi:type="dcterms:W3CDTF">2000-11-23T01:43:42Z</dcterms:modified>
  <cp:revision>2</cp:revision>
  <dc:subject/>
  <dc:title>Sin título de diapositiva</dc:title>
</cp:coreProperties>
</file>